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B0AF6-7545-4380-9008-D6B6586A0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1CE7-B3A0-42AC-B5F8-F02BB94D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4B15B-DEF5-417F-AF85-6220AB33C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9BBC71-297D-4A29-94C9-4218C312D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DEAC4-1DDA-4E83-ABBF-0069776D1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D34368-9124-4088-BDBC-044B3AE9A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FF613-BE1E-4B38-8E75-36FFEC1A1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E0D93-9629-4811-8BDC-28FF313AB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4559C-23AC-4A3C-97FF-F4BA071698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C58F54-CA34-4E16-8D30-600DD93C76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86A18A-28C6-4462-9878-263356CD2E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213A4B-B876-4A19-98B6-9EE1C986A8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65B48-AAD4-45F4-89F4-E08269F2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85A169-20D9-4EF8-8898-8799686A95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12D112-F25B-4F93-87B5-499E484F3E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6A592E-9976-4BBD-8761-8D969427D6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D59FAE-BF7F-4DB5-9CA9-E658D7705B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0A2A31-581B-4D79-81EA-79C8C8995A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70B34E-1689-4E90-B2DE-1D8083DFC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8AC95A-922B-46FE-BB10-1CA928DE81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18DE0D-EDF9-4F0C-B4E3-677A9E5A74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1DE395-17EE-4441-9C56-B072D10CC3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201A5D-F03F-4FD7-9E3B-C6D96F20D8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E6DD4-9845-426F-97E4-792AA8A2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01EB1A-85B1-4EE9-8840-AD032AA018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5CF4A0-9B96-4C9E-AA02-31FC439C35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67EFE7-2FA6-46A9-9E43-E8EC797487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8EF6DA-2745-4A54-922A-869C69F1BC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7C38B5-2F79-4C6E-82EC-15F50689D8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753B11-E367-41D6-8B57-6604DECD35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C0EE42-BF85-4F33-9748-E4018FDF80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E6025-D642-42B3-9360-35B352AE2C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08B188-9F87-4123-906E-0A0A7A86EB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FAF8E-1870-49B2-9A01-E16182D4EF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BE6C1-1D55-4DDB-A73F-E9132281E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FE5A8-FF1C-45FC-A39E-AE67206A5C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8C0632-737F-4B8C-B036-2FC0F0A1FB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876238-1A8F-4805-98FC-84C36188DD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E70056-550C-4E31-B370-5D2678E901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C233F3-94E6-4C10-A773-0A0A3E08BC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4197A5-0C06-423F-A675-7C9E261AC9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5970D7-8293-4F7F-B642-1C30EC0FCE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33985A-A25E-48C0-A10E-54CB9B1AD6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F63D15-AF1C-47BA-92FC-336D267E86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24B6DA-5E52-46E2-9201-0A934CE5C6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AF9A4-4794-47E9-BFF8-D5B74426D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91AFE9-E5B5-4E18-AFBF-349FCC4B03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D197E7-1584-4482-BEE3-5D86B16C78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806A0C-07AF-4A5C-923C-96B66772E5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68C89A-976E-4C84-91FF-F3BCBFC447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0E378D-C004-4BA2-A630-CEFE0FF9BD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C3E4CD-A94E-4955-AC13-80FDD02596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57A60A-930D-49ED-B926-ACE1F5472C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9CED62-7488-4CAD-BC0C-1F85E8D303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9509F9-8FDB-4C9E-BF88-7B2E211B4C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8B0FC7-5D90-4C3A-BE06-0391EA6B7E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04BFF-2815-4683-9A6D-45A491365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35E8C2-469F-4267-B8AB-F6B59E6ED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FB90E1-9DEF-47F5-9F3B-0745658757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9648BA-AD62-464C-A083-9EC1F96E22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6F997E-67BA-40E3-BC2F-408078A814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2B8311-A1CF-48A2-9718-24D1E8B270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7AAB9F7-9212-4052-9986-6487C91162B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74A108-16D3-4394-8FBF-911DB6A938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C9C131F-ADF3-4CEB-A457-7ABB09EC9F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CA3FF0-2377-4616-9308-A1364C95CE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0EB13B-2317-4CD6-99A4-99DE1621A06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2D4A0-2B06-484E-BE42-350189ABD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A4CAA2-5545-4D24-B8AE-03B09100C3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E5448B-3A3C-4944-9B1A-F34B30C387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FC268F-3613-4FC3-A654-253035E152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087868-0D6E-4AFF-95C8-E050BCADDF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61E1FF-29D4-4705-8A8D-7CEAD9036D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907BA0-0BB4-4AFC-832A-40B3D02832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215F5E-8139-4E6D-B8C4-0491491014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F2F456-0288-4303-8453-217B3C0160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970611B-0E55-4DA7-BDA7-80B67A6A45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2627F1-1E37-4291-8E35-B4337D40B7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4E16C-71AA-44D2-BB7D-04BD27EC8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9AFAAA4-0B42-41AC-BDB9-6318EE4FF6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6AC232-46F8-4BE1-86E9-9264D6B9A4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7D69AB4-865F-4ABC-9DB1-F8E2815720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597D70-6C59-40C5-B01C-6DC24599AC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E66BA40-701C-4263-8744-E1FC277E58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CC27CA-6C4E-4F91-BD00-F40F3939D6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224DE9-434A-4924-ACA3-2C89499BE6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D661C2-6929-4A1A-A1A6-6E487F800E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EFFD17-4B7E-4EA4-82D6-CB8F6C1033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A77AD0F-0B05-49B7-9130-F1BB05BD40A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1EE78-DA7C-4DC5-86DE-5C9BA496D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6E3B928-1143-408E-9620-2605F3AD98C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16A9A6-9295-49BA-9F99-C64784630A5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99875D-4DAC-4A61-BE96-0FDC5D7275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479DF2-8F09-48C9-A500-F2C587D616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A6E40D-CAAB-448E-8C0C-D11891A199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C86AB7-4CC6-4FF0-B32E-2E21732554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C42D58-74EE-4C33-8F45-FCF121D119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80B14C-8E1C-4D41-BD74-E85C92958C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B057C6-E8C4-4F09-81E5-35A764315A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A7BACD-E461-4115-90D2-9DEA757A5F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7FA8-2211-4147-A944-84F1FE0FC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D93362-F510-4B9F-9294-862B10D58F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49A458C-50D8-42B6-94C7-BB4D1FA516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CD8A48-56B9-4AD1-BE41-CDD6ACB573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E126-83F7-498E-BB40-EE4D9AAE2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05CCB-A810-4931-9E20-9D9D7E609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B7F8-24C7-41DE-BF98-385CFC93C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5D0AC-987F-4CCE-B8CB-E0EB91691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A2EC8-27D0-416F-9F20-24A8911A4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DB33A-B397-4444-98D2-C2A3365AD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EEB04D8-B352-4A6D-9C75-FD0E8237F1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75C914-FFE6-4C97-ACAC-303D40890E0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AC4037-7F62-4AB4-A323-10E74641DAF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E4F9B0-3FBA-4E42-887E-A8B40C81CC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C136CD-F128-471E-81DB-224AABBFF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269A-C323-4DA3-8DD9-C18E618BF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CC6607-C6B2-4D42-ABA0-498545AD08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41E834-B62F-41BA-B419-18FD83024C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006C12-FD59-4DF6-B638-FFD3B0281A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308A26-93F2-4886-BBDE-B9BE594694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402485-A3D0-497D-94FA-13F40D901A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D15968-4EF7-4424-8707-2D66882542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8700F4-0788-4CBA-8E99-EA146D06BC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23747-2007-4E01-BF00-C9216F142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EA0C7-85F2-43DA-82D4-5A5BADA32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E51C10-4D1A-4A77-8600-C90849CAA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ED48-C6BC-4A3B-B60A-9DCC3B56C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DFD7D-4CAF-4100-AD04-0F327F2C1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F4816-126D-4539-AC2A-C2417365B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732B6-FC31-4A01-AE5B-1C00AD54E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62189-E977-445A-AFB4-F5B257347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81758-36C3-4572-8B4A-709C97403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2C959-75C5-4018-9192-E00408E71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038D59-9426-4DE1-9AE6-5D1C6E9C9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BDDFF0-B838-41A5-BCB2-065F56876D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359A27-DC73-4D2B-8F30-E4352B84F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05DAF7-E998-4871-A441-164A07AC0D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28FBC-999B-4D75-804F-7CE02B69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73BF0-F528-4D30-8A05-6CAE407B3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F10BE-4576-4FBE-9519-513A14803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333EB-7D1F-483A-B342-B7E9826121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E73CCD-9C9F-4A77-8A29-0B6F5AF34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EF6D3-DDF1-48A3-8A12-3472C5458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1D0D1-26DB-4322-BE9C-73D42F240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060E2-4944-4F6D-ACA6-B81A994A8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0D642-CFBC-41AC-8E25-74AAB827D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F467F-7D12-4729-8F82-2A2FA9886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B7E802-0F78-417B-A170-EB814FD43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7036-67BA-4114-A2F1-B6A20C3A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C0734-4DCD-4D9A-9E11-6FEEF60DE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417E6-7FF2-48D4-AD42-049FCB859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4B5A94-5B5A-448D-BCB6-738C6E92C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3A8B9-997F-489D-9DE3-35921D629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98BE9-2715-4432-885B-A3DC6D866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B3C2F-7E16-42FD-A2BA-8BC1D00F1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E4F01-6BDC-454F-858B-B12307AEF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7C03E-2CBE-4AF0-BCB9-89B0E7733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541C6-FD70-4EDB-8337-93815103A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DC628-E7C2-486C-AB6F-36FB0D7B6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4C3E-8B81-4DCA-AC6F-33048954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F98A8-2A4F-46C8-BA7B-F4015684B6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1B2694-9579-46CE-95E2-5FE984A5C7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8A21B6-2A99-4023-BD1D-22726534BE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7C217-5909-428A-9235-A377D75BD5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C3EEE-B6B4-49B1-AE81-01436DBCC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FABCC-2B78-4005-AFAA-C5C0EF85CF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30DC7-A254-45C4-8FF0-E146AA920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D9FE2-8325-4283-9F4D-03DE0A8746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58BCA-6845-4C67-8BCE-58DC948EA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B8EE6-8E9E-4F99-BB2A-FB84F4A43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521B-A556-4817-9475-78D5EE10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D7D3D-C636-4BF0-8B9C-F895506D8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BF00F-E364-454E-B9FA-1B48B05C39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68775-2AD5-46EA-A98F-B1BD020FD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9F7B05-4575-4F37-8F0A-42FFA59553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760E72-E3EC-4EFB-B73F-E18979B5E4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DB530D-289E-4263-AEAB-8F916A6B14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0782F1-5890-4846-A96A-F2CD3491E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2C8665-9564-4C94-9EF7-2662A9323D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3E8F24-7276-4AF2-8DC2-0087A4598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CD7F3-7BF6-4E95-948A-E98B25603D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7844-E745-4E10-8E86-9C683CBE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90E29-C403-4330-B879-B4F2AE5B8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5DF9B-0E78-4B35-B0AA-42D3F6197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02409-6E8E-4975-BB46-186C7908B0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346D5-FDAB-4E53-AAD3-18EB51321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D93BE-AD71-4889-9270-5BF2FE9B5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3A2756-12BF-4EFB-A13E-3DE0875A6B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0F8627-E3B2-47B7-B87C-806972B12A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A12BE7-F0E8-4C83-B4D3-FC1273E967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642EC4-4567-4D70-88EB-653806C0A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305C0-91D7-4D0C-A9B4-E29C1889A1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4F29-DE6F-4A90-9C41-502B0468CF5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 descr=""/>
          <p:cNvPicPr/>
          <p:nvPr/>
        </p:nvPicPr>
        <p:blipFill>
          <a:blip r:embed="rId2"/>
          <a:stretch/>
        </p:blipFill>
        <p:spPr>
          <a:xfrm>
            <a:off x="0" y="0"/>
            <a:ext cx="9144000" cy="6862680"/>
          </a:xfrm>
          <a:prstGeom prst="rect">
            <a:avLst/>
          </a:prstGeom>
          <a:ln w="0">
            <a:noFill/>
          </a:ln>
        </p:spPr>
      </p:pic>
      <p:sp>
        <p:nvSpPr>
          <p:cNvPr id="820" name="PlaceHolder 1"/>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21"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22" name="PlaceHolder 3"/>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B073-EF97-42D5-9CE6-EECA531369E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3"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60" name=""/>
          <p:cNvGrpSpPr/>
          <p:nvPr/>
        </p:nvGrpSpPr>
        <p:grpSpPr>
          <a:xfrm>
            <a:off x="1440" y="0"/>
            <a:ext cx="9149040" cy="6851520"/>
            <a:chOff x="1440" y="0"/>
            <a:chExt cx="9149040" cy="6851520"/>
          </a:xfrm>
        </p:grpSpPr>
        <p:sp>
          <p:nvSpPr>
            <p:cNvPr id="86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64" name=""/>
            <p:cNvGrpSpPr/>
            <p:nvPr/>
          </p:nvGrpSpPr>
          <p:grpSpPr>
            <a:xfrm>
              <a:off x="457200" y="0"/>
              <a:ext cx="8093160" cy="6851520"/>
              <a:chOff x="457200" y="0"/>
              <a:chExt cx="8093160" cy="6851520"/>
            </a:xfrm>
          </p:grpSpPr>
          <p:sp>
            <p:nvSpPr>
              <p:cNvPr id="86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6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7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7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8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889" name=""/>
            <p:cNvGrpSpPr/>
            <p:nvPr/>
          </p:nvGrpSpPr>
          <p:grpSpPr>
            <a:xfrm>
              <a:off x="1440" y="622440"/>
              <a:ext cx="9141120" cy="2493720"/>
              <a:chOff x="1440" y="622440"/>
              <a:chExt cx="9141120" cy="2493720"/>
            </a:xfrm>
          </p:grpSpPr>
          <p:sp>
            <p:nvSpPr>
              <p:cNvPr id="89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9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8" name="PlaceHolder 2"/>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99"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00" name="PlaceHolder 4"/>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3876-9127-4D91-A6DC-E2EF2B3C50B5}"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90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38" name=""/>
          <p:cNvGrpSpPr/>
          <p:nvPr/>
        </p:nvGrpSpPr>
        <p:grpSpPr>
          <a:xfrm>
            <a:off x="0" y="0"/>
            <a:ext cx="9148320" cy="6851520"/>
            <a:chOff x="0" y="0"/>
            <a:chExt cx="9148320" cy="6851520"/>
          </a:xfrm>
        </p:grpSpPr>
        <p:sp>
          <p:nvSpPr>
            <p:cNvPr id="93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42" name=""/>
            <p:cNvGrpSpPr/>
            <p:nvPr/>
          </p:nvGrpSpPr>
          <p:grpSpPr>
            <a:xfrm>
              <a:off x="455400" y="0"/>
              <a:ext cx="8092440" cy="6851520"/>
              <a:chOff x="455400" y="0"/>
              <a:chExt cx="8092440" cy="6851520"/>
            </a:xfrm>
          </p:grpSpPr>
          <p:sp>
            <p:nvSpPr>
              <p:cNvPr id="94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4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5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5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967" name=""/>
            <p:cNvGrpSpPr/>
            <p:nvPr/>
          </p:nvGrpSpPr>
          <p:grpSpPr>
            <a:xfrm>
              <a:off x="0" y="622440"/>
              <a:ext cx="9140760" cy="2493720"/>
              <a:chOff x="0" y="622440"/>
              <a:chExt cx="9140760" cy="2493720"/>
            </a:xfrm>
          </p:grpSpPr>
          <p:sp>
            <p:nvSpPr>
              <p:cNvPr id="96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6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7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7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9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76"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7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78"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312D-B7FD-43D9-96E3-1EAB37412436}"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1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7" name="PlaceHolder 3"/>
          <p:cNvSpPr>
            <a:spLocks noGrp="1"/>
          </p:cNvSpPr>
          <p:nvPr>
            <p:ph type="dt" idx="3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9" name="PlaceHolder 5"/>
          <p:cNvSpPr>
            <a:spLocks noGrp="1"/>
          </p:cNvSpPr>
          <p:nvPr>
            <p:ph type="sldNum" idx="3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C413-A136-451D-91D3-93EAF26D65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057" name="PlaceHolder 2"/>
          <p:cNvSpPr>
            <a:spLocks noGrp="1"/>
          </p:cNvSpPr>
          <p:nvPr>
            <p:ph type="dt" idx="4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9" name="PlaceHolder 4"/>
          <p:cNvSpPr>
            <a:spLocks noGrp="1"/>
          </p:cNvSpPr>
          <p:nvPr>
            <p:ph type="sldNum" idx="4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8BF4-9BA2-4615-9012-D2C995D04B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096" name=""/>
          <p:cNvGrpSpPr/>
          <p:nvPr/>
        </p:nvGrpSpPr>
        <p:grpSpPr>
          <a:xfrm>
            <a:off x="4716360" y="5345280"/>
            <a:ext cx="4427640" cy="1512720"/>
            <a:chOff x="4716360" y="5345280"/>
            <a:chExt cx="4427640" cy="1512720"/>
          </a:xfrm>
        </p:grpSpPr>
        <p:sp>
          <p:nvSpPr>
            <p:cNvPr id="1097"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98"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099"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00"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1"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2"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3"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4"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5"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6"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7"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8"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09"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10"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11"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13"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114"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115"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ECE8-0AA3-4C81-9048-C11E2C989756}" type="slidenum">
              <a:rPr b="0" lang="en-GB"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111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153" name=""/>
          <p:cNvGrpSpPr/>
          <p:nvPr/>
        </p:nvGrpSpPr>
        <p:grpSpPr>
          <a:xfrm>
            <a:off x="4716360" y="5345280"/>
            <a:ext cx="4427640" cy="1512720"/>
            <a:chOff x="4716360" y="5345280"/>
            <a:chExt cx="4427640" cy="1512720"/>
          </a:xfrm>
        </p:grpSpPr>
        <p:sp>
          <p:nvSpPr>
            <p:cNvPr id="115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5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15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5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6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1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70"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17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172"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B202-83C2-40FE-984D-1FF474D31B58}" type="slidenum">
              <a:rPr b="0" lang="en-GB"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98B1-8FB3-4B50-A489-CAF1B97D2E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
          <p:cNvGrpSpPr/>
          <p:nvPr/>
        </p:nvGrpSpPr>
        <p:grpSpPr>
          <a:xfrm>
            <a:off x="0" y="0"/>
            <a:ext cx="9159840" cy="6858000"/>
            <a:chOff x="0" y="0"/>
            <a:chExt cx="9159840" cy="6858000"/>
          </a:xfrm>
        </p:grpSpPr>
        <p:sp>
          <p:nvSpPr>
            <p:cNvPr id="21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1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2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3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7E40-7606-4AFD-808A-C4668F83372A}"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3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5" name=""/>
          <p:cNvGrpSpPr/>
          <p:nvPr/>
        </p:nvGrpSpPr>
        <p:grpSpPr>
          <a:xfrm>
            <a:off x="0" y="0"/>
            <a:ext cx="9159840" cy="6858000"/>
            <a:chOff x="0" y="0"/>
            <a:chExt cx="9159840" cy="6858000"/>
          </a:xfrm>
        </p:grpSpPr>
        <p:sp>
          <p:nvSpPr>
            <p:cNvPr id="27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8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9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9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9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0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DE8D-181E-4FAA-8652-2F0A77CAF273}"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7" name=""/>
          <p:cNvGrpSpPr/>
          <p:nvPr/>
        </p:nvGrpSpPr>
        <p:grpSpPr>
          <a:xfrm>
            <a:off x="6273360" y="-21240"/>
            <a:ext cx="2966400" cy="3296160"/>
            <a:chOff x="6273360" y="-21240"/>
            <a:chExt cx="2966400" cy="3296160"/>
          </a:xfrm>
        </p:grpSpPr>
        <p:grpSp>
          <p:nvGrpSpPr>
            <p:cNvPr id="338" name=""/>
            <p:cNvGrpSpPr/>
            <p:nvPr/>
          </p:nvGrpSpPr>
          <p:grpSpPr>
            <a:xfrm>
              <a:off x="7566840" y="2500200"/>
              <a:ext cx="1004760" cy="753840"/>
              <a:chOff x="7566840" y="2500200"/>
              <a:chExt cx="1004760" cy="753840"/>
            </a:xfrm>
          </p:grpSpPr>
          <p:sp>
            <p:nvSpPr>
              <p:cNvPr id="33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1" name=""/>
            <p:cNvGrpSpPr/>
            <p:nvPr/>
          </p:nvGrpSpPr>
          <p:grpSpPr>
            <a:xfrm>
              <a:off x="7798320" y="1443600"/>
              <a:ext cx="1005120" cy="753840"/>
              <a:chOff x="7798320" y="1443600"/>
              <a:chExt cx="1005120" cy="753840"/>
            </a:xfrm>
          </p:grpSpPr>
          <p:sp>
            <p:nvSpPr>
              <p:cNvPr id="34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4" name=""/>
            <p:cNvGrpSpPr/>
            <p:nvPr/>
          </p:nvGrpSpPr>
          <p:grpSpPr>
            <a:xfrm>
              <a:off x="6328800" y="0"/>
              <a:ext cx="1005120" cy="753840"/>
              <a:chOff x="6328800" y="0"/>
              <a:chExt cx="1005120" cy="753840"/>
            </a:xfrm>
          </p:grpSpPr>
          <p:sp>
            <p:nvSpPr>
              <p:cNvPr id="34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47" name=""/>
            <p:cNvGrpSpPr/>
            <p:nvPr/>
          </p:nvGrpSpPr>
          <p:grpSpPr>
            <a:xfrm>
              <a:off x="6273360" y="-21240"/>
              <a:ext cx="2966400" cy="3296160"/>
              <a:chOff x="6273360" y="-21240"/>
              <a:chExt cx="2966400" cy="3296160"/>
            </a:xfrm>
          </p:grpSpPr>
          <p:grpSp>
            <p:nvGrpSpPr>
              <p:cNvPr id="348" name=""/>
              <p:cNvGrpSpPr/>
              <p:nvPr/>
            </p:nvGrpSpPr>
            <p:grpSpPr>
              <a:xfrm>
                <a:off x="6990840" y="402840"/>
                <a:ext cx="1498680" cy="1104480"/>
                <a:chOff x="6990840" y="402840"/>
                <a:chExt cx="1498680" cy="1104480"/>
              </a:xfrm>
            </p:grpSpPr>
            <p:sp>
              <p:nvSpPr>
                <p:cNvPr id="34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1" name=""/>
              <p:cNvGrpSpPr/>
              <p:nvPr/>
            </p:nvGrpSpPr>
            <p:grpSpPr>
              <a:xfrm>
                <a:off x="6273360" y="-21240"/>
                <a:ext cx="2867400" cy="2268360"/>
                <a:chOff x="6273360" y="-21240"/>
                <a:chExt cx="2867400" cy="2268360"/>
              </a:xfrm>
            </p:grpSpPr>
            <p:grpSp>
              <p:nvGrpSpPr>
                <p:cNvPr id="352" name=""/>
                <p:cNvGrpSpPr/>
                <p:nvPr/>
              </p:nvGrpSpPr>
              <p:grpSpPr>
                <a:xfrm>
                  <a:off x="7834680" y="842760"/>
                  <a:ext cx="1064160" cy="1141560"/>
                  <a:chOff x="7834680" y="842760"/>
                  <a:chExt cx="1064160" cy="1141560"/>
                </a:xfrm>
              </p:grpSpPr>
              <p:sp>
                <p:nvSpPr>
                  <p:cNvPr id="35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5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55" name=""/>
                <p:cNvGrpSpPr/>
                <p:nvPr/>
              </p:nvGrpSpPr>
              <p:grpSpPr>
                <a:xfrm>
                  <a:off x="7844760" y="770760"/>
                  <a:ext cx="1265760" cy="1052640"/>
                  <a:chOff x="7844760" y="770760"/>
                  <a:chExt cx="1265760" cy="1052640"/>
                </a:xfrm>
              </p:grpSpPr>
              <p:sp>
                <p:nvSpPr>
                  <p:cNvPr id="35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5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58" name=""/>
                <p:cNvGrpSpPr/>
                <p:nvPr/>
              </p:nvGrpSpPr>
              <p:grpSpPr>
                <a:xfrm>
                  <a:off x="7840440" y="735480"/>
                  <a:ext cx="1288080" cy="828720"/>
                  <a:chOff x="7840440" y="735480"/>
                  <a:chExt cx="1288080" cy="828720"/>
                </a:xfrm>
              </p:grpSpPr>
              <p:sp>
                <p:nvSpPr>
                  <p:cNvPr id="35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1" name=""/>
                <p:cNvGrpSpPr/>
                <p:nvPr/>
              </p:nvGrpSpPr>
              <p:grpSpPr>
                <a:xfrm>
                  <a:off x="7837200" y="695880"/>
                  <a:ext cx="1303560" cy="669240"/>
                  <a:chOff x="7837200" y="695880"/>
                  <a:chExt cx="1303560" cy="669240"/>
                </a:xfrm>
              </p:grpSpPr>
              <p:sp>
                <p:nvSpPr>
                  <p:cNvPr id="36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4" name=""/>
                <p:cNvGrpSpPr/>
                <p:nvPr/>
              </p:nvGrpSpPr>
              <p:grpSpPr>
                <a:xfrm>
                  <a:off x="7852680" y="657720"/>
                  <a:ext cx="1223640" cy="417960"/>
                  <a:chOff x="7852680" y="657720"/>
                  <a:chExt cx="1223640" cy="417960"/>
                </a:xfrm>
              </p:grpSpPr>
              <p:sp>
                <p:nvSpPr>
                  <p:cNvPr id="36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67" name=""/>
                <p:cNvGrpSpPr/>
                <p:nvPr/>
              </p:nvGrpSpPr>
              <p:grpSpPr>
                <a:xfrm>
                  <a:off x="7871760" y="632880"/>
                  <a:ext cx="1106280" cy="184320"/>
                  <a:chOff x="7871760" y="632880"/>
                  <a:chExt cx="1106280" cy="184320"/>
                </a:xfrm>
              </p:grpSpPr>
              <p:sp>
                <p:nvSpPr>
                  <p:cNvPr id="36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6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0" name=""/>
                <p:cNvGrpSpPr/>
                <p:nvPr/>
              </p:nvGrpSpPr>
              <p:grpSpPr>
                <a:xfrm>
                  <a:off x="7845480" y="419760"/>
                  <a:ext cx="983520" cy="326880"/>
                  <a:chOff x="7845480" y="419760"/>
                  <a:chExt cx="983520" cy="326880"/>
                </a:xfrm>
              </p:grpSpPr>
              <p:sp>
                <p:nvSpPr>
                  <p:cNvPr id="37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73" name=""/>
                <p:cNvGrpSpPr/>
                <p:nvPr/>
              </p:nvGrpSpPr>
              <p:grpSpPr>
                <a:xfrm>
                  <a:off x="6538320" y="906120"/>
                  <a:ext cx="1063440" cy="1140840"/>
                  <a:chOff x="6538320" y="906120"/>
                  <a:chExt cx="1063440" cy="1140840"/>
                </a:xfrm>
              </p:grpSpPr>
              <p:sp>
                <p:nvSpPr>
                  <p:cNvPr id="37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6" name=""/>
                <p:cNvGrpSpPr/>
                <p:nvPr/>
              </p:nvGrpSpPr>
              <p:grpSpPr>
                <a:xfrm>
                  <a:off x="6303960" y="861120"/>
                  <a:ext cx="1266120" cy="1053000"/>
                  <a:chOff x="6303960" y="861120"/>
                  <a:chExt cx="1266120" cy="1053000"/>
                </a:xfrm>
              </p:grpSpPr>
              <p:sp>
                <p:nvSpPr>
                  <p:cNvPr id="37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7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79" name=""/>
                <p:cNvGrpSpPr/>
                <p:nvPr/>
              </p:nvGrpSpPr>
              <p:grpSpPr>
                <a:xfrm>
                  <a:off x="6285960" y="826920"/>
                  <a:ext cx="1288800" cy="828720"/>
                  <a:chOff x="6285960" y="826920"/>
                  <a:chExt cx="1288800" cy="828720"/>
                </a:xfrm>
              </p:grpSpPr>
              <p:sp>
                <p:nvSpPr>
                  <p:cNvPr id="38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2" name=""/>
                <p:cNvGrpSpPr/>
                <p:nvPr/>
              </p:nvGrpSpPr>
              <p:grpSpPr>
                <a:xfrm>
                  <a:off x="6273360" y="787320"/>
                  <a:ext cx="1303920" cy="668520"/>
                  <a:chOff x="6273360" y="787320"/>
                  <a:chExt cx="1303920" cy="668520"/>
                </a:xfrm>
              </p:grpSpPr>
              <p:sp>
                <p:nvSpPr>
                  <p:cNvPr id="38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5" name=""/>
                <p:cNvGrpSpPr/>
                <p:nvPr/>
              </p:nvGrpSpPr>
              <p:grpSpPr>
                <a:xfrm>
                  <a:off x="6338880" y="749520"/>
                  <a:ext cx="1222560" cy="416160"/>
                  <a:chOff x="6338880" y="749520"/>
                  <a:chExt cx="1222560" cy="416160"/>
                </a:xfrm>
              </p:grpSpPr>
              <p:sp>
                <p:nvSpPr>
                  <p:cNvPr id="38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8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88" name=""/>
                <p:cNvGrpSpPr/>
                <p:nvPr/>
              </p:nvGrpSpPr>
              <p:grpSpPr>
                <a:xfrm>
                  <a:off x="6436080" y="722880"/>
                  <a:ext cx="1106640" cy="184320"/>
                  <a:chOff x="6436080" y="722880"/>
                  <a:chExt cx="1106640" cy="184320"/>
                </a:xfrm>
              </p:grpSpPr>
              <p:sp>
                <p:nvSpPr>
                  <p:cNvPr id="38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391" name=""/>
                <p:cNvGrpSpPr/>
                <p:nvPr/>
              </p:nvGrpSpPr>
              <p:grpSpPr>
                <a:xfrm>
                  <a:off x="6585480" y="510120"/>
                  <a:ext cx="983880" cy="326880"/>
                  <a:chOff x="6585480" y="510120"/>
                  <a:chExt cx="983880" cy="326880"/>
                </a:xfrm>
              </p:grpSpPr>
              <p:sp>
                <p:nvSpPr>
                  <p:cNvPr id="39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4" name=""/>
                <p:cNvGrpSpPr/>
                <p:nvPr/>
              </p:nvGrpSpPr>
              <p:grpSpPr>
                <a:xfrm>
                  <a:off x="6638400" y="390600"/>
                  <a:ext cx="967320" cy="451800"/>
                  <a:chOff x="6638400" y="390600"/>
                  <a:chExt cx="967320" cy="451800"/>
                </a:xfrm>
              </p:grpSpPr>
              <p:sp>
                <p:nvSpPr>
                  <p:cNvPr id="39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397" name=""/>
                <p:cNvGrpSpPr/>
                <p:nvPr/>
              </p:nvGrpSpPr>
              <p:grpSpPr>
                <a:xfrm>
                  <a:off x="6751800" y="222480"/>
                  <a:ext cx="902520" cy="627120"/>
                  <a:chOff x="6751800" y="222480"/>
                  <a:chExt cx="902520" cy="627120"/>
                </a:xfrm>
              </p:grpSpPr>
              <p:sp>
                <p:nvSpPr>
                  <p:cNvPr id="39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39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0" name=""/>
                <p:cNvGrpSpPr/>
                <p:nvPr/>
              </p:nvGrpSpPr>
              <p:grpSpPr>
                <a:xfrm>
                  <a:off x="6867720" y="57600"/>
                  <a:ext cx="825120" cy="761760"/>
                  <a:chOff x="6867720" y="57600"/>
                  <a:chExt cx="825120" cy="761760"/>
                </a:xfrm>
              </p:grpSpPr>
              <p:sp>
                <p:nvSpPr>
                  <p:cNvPr id="40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3" name=""/>
                <p:cNvGrpSpPr/>
                <p:nvPr/>
              </p:nvGrpSpPr>
              <p:grpSpPr>
                <a:xfrm>
                  <a:off x="7111800" y="15840"/>
                  <a:ext cx="608040" cy="784800"/>
                  <a:chOff x="7111800" y="15840"/>
                  <a:chExt cx="608040" cy="784800"/>
                </a:xfrm>
              </p:grpSpPr>
              <p:sp>
                <p:nvSpPr>
                  <p:cNvPr id="40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6" name=""/>
                <p:cNvGrpSpPr/>
                <p:nvPr/>
              </p:nvGrpSpPr>
              <p:grpSpPr>
                <a:xfrm>
                  <a:off x="7287480" y="-21240"/>
                  <a:ext cx="466560" cy="808200"/>
                  <a:chOff x="7287480" y="-21240"/>
                  <a:chExt cx="466560" cy="808200"/>
                </a:xfrm>
              </p:grpSpPr>
              <p:sp>
                <p:nvSpPr>
                  <p:cNvPr id="40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0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09" name=""/>
                <p:cNvGrpSpPr/>
                <p:nvPr/>
              </p:nvGrpSpPr>
              <p:grpSpPr>
                <a:xfrm>
                  <a:off x="7793280" y="272160"/>
                  <a:ext cx="963720" cy="462960"/>
                  <a:chOff x="7793280" y="272160"/>
                  <a:chExt cx="963720" cy="462960"/>
                </a:xfrm>
              </p:grpSpPr>
              <p:sp>
                <p:nvSpPr>
                  <p:cNvPr id="41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12" name=""/>
                <p:cNvGrpSpPr/>
                <p:nvPr/>
              </p:nvGrpSpPr>
              <p:grpSpPr>
                <a:xfrm>
                  <a:off x="7737840" y="136080"/>
                  <a:ext cx="915840" cy="604800"/>
                  <a:chOff x="7737840" y="136080"/>
                  <a:chExt cx="915840" cy="604800"/>
                </a:xfrm>
              </p:grpSpPr>
              <p:sp>
                <p:nvSpPr>
                  <p:cNvPr id="41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41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eaeaea"/>
                    </a:solidFill>
                    <a:latin typeface="Arial"/>
                  </a:endParaRPr>
                </a:p>
              </p:txBody>
            </p:sp>
            <p:sp>
              <p:nvSpPr>
                <p:cNvPr id="41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417" name=""/>
                <p:cNvGrpSpPr/>
                <p:nvPr/>
              </p:nvGrpSpPr>
              <p:grpSpPr>
                <a:xfrm>
                  <a:off x="7665480" y="-11160"/>
                  <a:ext cx="497520" cy="790920"/>
                  <a:chOff x="7665480" y="-11160"/>
                  <a:chExt cx="497520" cy="790920"/>
                </a:xfrm>
              </p:grpSpPr>
              <p:sp>
                <p:nvSpPr>
                  <p:cNvPr id="41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1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0" name=""/>
                <p:cNvGrpSpPr/>
                <p:nvPr/>
              </p:nvGrpSpPr>
              <p:grpSpPr>
                <a:xfrm>
                  <a:off x="7662960" y="38160"/>
                  <a:ext cx="785880" cy="747360"/>
                  <a:chOff x="7662960" y="38160"/>
                  <a:chExt cx="785880" cy="747360"/>
                </a:xfrm>
              </p:grpSpPr>
              <p:sp>
                <p:nvSpPr>
                  <p:cNvPr id="42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23" name=""/>
                <p:cNvGrpSpPr/>
                <p:nvPr/>
              </p:nvGrpSpPr>
              <p:grpSpPr>
                <a:xfrm>
                  <a:off x="7708680" y="-1440"/>
                  <a:ext cx="177840" cy="746640"/>
                  <a:chOff x="7708680" y="-1440"/>
                  <a:chExt cx="177840" cy="746640"/>
                </a:xfrm>
              </p:grpSpPr>
              <p:sp>
                <p:nvSpPr>
                  <p:cNvPr id="42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eaeaea"/>
                      </a:solidFill>
                      <a:latin typeface="Arial"/>
                    </a:endParaRPr>
                  </a:p>
                </p:txBody>
              </p:sp>
              <p:sp>
                <p:nvSpPr>
                  <p:cNvPr id="42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eaeaea"/>
                      </a:solidFill>
                      <a:latin typeface="Arial"/>
                    </a:endParaRPr>
                  </a:p>
                </p:txBody>
              </p:sp>
            </p:grpSp>
            <p:grpSp>
              <p:nvGrpSpPr>
                <p:cNvPr id="426" name=""/>
                <p:cNvGrpSpPr/>
                <p:nvPr/>
              </p:nvGrpSpPr>
              <p:grpSpPr>
                <a:xfrm>
                  <a:off x="6711120" y="929880"/>
                  <a:ext cx="912960" cy="1248840"/>
                  <a:chOff x="6711120" y="929880"/>
                  <a:chExt cx="912960" cy="1248840"/>
                </a:xfrm>
              </p:grpSpPr>
              <p:sp>
                <p:nvSpPr>
                  <p:cNvPr id="42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2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29" name=""/>
                <p:cNvGrpSpPr/>
                <p:nvPr/>
              </p:nvGrpSpPr>
              <p:grpSpPr>
                <a:xfrm>
                  <a:off x="7014240" y="979200"/>
                  <a:ext cx="616680" cy="1248480"/>
                  <a:chOff x="7014240" y="979200"/>
                  <a:chExt cx="616680" cy="1248480"/>
                </a:xfrm>
              </p:grpSpPr>
              <p:sp>
                <p:nvSpPr>
                  <p:cNvPr id="43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2" name=""/>
                <p:cNvGrpSpPr/>
                <p:nvPr/>
              </p:nvGrpSpPr>
              <p:grpSpPr>
                <a:xfrm>
                  <a:off x="7311960" y="1001160"/>
                  <a:ext cx="364680" cy="1217880"/>
                  <a:chOff x="7311960" y="1001160"/>
                  <a:chExt cx="364680" cy="1217880"/>
                </a:xfrm>
              </p:grpSpPr>
              <p:sp>
                <p:nvSpPr>
                  <p:cNvPr id="43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43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5" name=""/>
                <p:cNvGrpSpPr/>
                <p:nvPr/>
              </p:nvGrpSpPr>
              <p:grpSpPr>
                <a:xfrm>
                  <a:off x="7798680" y="909360"/>
                  <a:ext cx="949680" cy="1229040"/>
                  <a:chOff x="7798680" y="909360"/>
                  <a:chExt cx="949680" cy="1229040"/>
                </a:xfrm>
              </p:grpSpPr>
              <p:sp>
                <p:nvSpPr>
                  <p:cNvPr id="43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38" name=""/>
                <p:cNvGrpSpPr/>
                <p:nvPr/>
              </p:nvGrpSpPr>
              <p:grpSpPr>
                <a:xfrm>
                  <a:off x="7786440" y="956160"/>
                  <a:ext cx="732960" cy="1261800"/>
                  <a:chOff x="7786440" y="956160"/>
                  <a:chExt cx="732960" cy="1261800"/>
                </a:xfrm>
              </p:grpSpPr>
              <p:sp>
                <p:nvSpPr>
                  <p:cNvPr id="43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441" name=""/>
                <p:cNvGrpSpPr/>
                <p:nvPr/>
              </p:nvGrpSpPr>
              <p:grpSpPr>
                <a:xfrm>
                  <a:off x="7756920" y="1005120"/>
                  <a:ext cx="510120" cy="1242000"/>
                  <a:chOff x="7756920" y="1005120"/>
                  <a:chExt cx="510120" cy="1242000"/>
                </a:xfrm>
              </p:grpSpPr>
              <p:sp>
                <p:nvSpPr>
                  <p:cNvPr id="44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4" name=""/>
                <p:cNvGrpSpPr/>
                <p:nvPr/>
              </p:nvGrpSpPr>
              <p:grpSpPr>
                <a:xfrm>
                  <a:off x="7733880" y="1058760"/>
                  <a:ext cx="290160" cy="1155960"/>
                  <a:chOff x="7733880" y="1058760"/>
                  <a:chExt cx="290160" cy="1155960"/>
                </a:xfrm>
              </p:grpSpPr>
              <p:sp>
                <p:nvSpPr>
                  <p:cNvPr id="44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447" name=""/>
                <p:cNvGrpSpPr/>
                <p:nvPr/>
              </p:nvGrpSpPr>
              <p:grpSpPr>
                <a:xfrm>
                  <a:off x="7500960" y="1077480"/>
                  <a:ext cx="276120" cy="1131480"/>
                  <a:chOff x="7500960" y="1077480"/>
                  <a:chExt cx="276120" cy="1131480"/>
                </a:xfrm>
              </p:grpSpPr>
              <p:sp>
                <p:nvSpPr>
                  <p:cNvPr id="44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5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6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7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7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7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6C45-98E9-47BB-80A1-5E076A72BBF0}" type="slidenum">
              <a:rPr b="0" lang="en-GB"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3" name=""/>
          <p:cNvGrpSpPr/>
          <p:nvPr/>
        </p:nvGrpSpPr>
        <p:grpSpPr>
          <a:xfrm>
            <a:off x="2010960" y="245520"/>
            <a:ext cx="7128000" cy="7923600"/>
            <a:chOff x="2010960" y="245520"/>
            <a:chExt cx="7128000" cy="7923600"/>
          </a:xfrm>
        </p:grpSpPr>
        <p:grpSp>
          <p:nvGrpSpPr>
            <p:cNvPr id="514" name=""/>
            <p:cNvGrpSpPr/>
            <p:nvPr/>
          </p:nvGrpSpPr>
          <p:grpSpPr>
            <a:xfrm>
              <a:off x="3483000" y="954000"/>
              <a:ext cx="946080" cy="709560"/>
              <a:chOff x="3483000" y="954000"/>
              <a:chExt cx="946080" cy="709560"/>
            </a:xfrm>
          </p:grpSpPr>
          <p:sp>
            <p:nvSpPr>
              <p:cNvPr id="51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17" name=""/>
            <p:cNvGrpSpPr/>
            <p:nvPr/>
          </p:nvGrpSpPr>
          <p:grpSpPr>
            <a:xfrm>
              <a:off x="2010960" y="245520"/>
              <a:ext cx="7128000" cy="7705800"/>
              <a:chOff x="2010960" y="245520"/>
              <a:chExt cx="7128000" cy="7705800"/>
            </a:xfrm>
          </p:grpSpPr>
          <p:grpSp>
            <p:nvGrpSpPr>
              <p:cNvPr id="518" name=""/>
              <p:cNvGrpSpPr/>
              <p:nvPr/>
            </p:nvGrpSpPr>
            <p:grpSpPr>
              <a:xfrm>
                <a:off x="2010960" y="245520"/>
                <a:ext cx="6891120" cy="5452200"/>
                <a:chOff x="2010960" y="245520"/>
                <a:chExt cx="6891120" cy="5452200"/>
              </a:xfrm>
            </p:grpSpPr>
            <p:grpSp>
              <p:nvGrpSpPr>
                <p:cNvPr id="519" name=""/>
                <p:cNvGrpSpPr/>
                <p:nvPr/>
              </p:nvGrpSpPr>
              <p:grpSpPr>
                <a:xfrm>
                  <a:off x="3735720" y="1266120"/>
                  <a:ext cx="3599280" cy="2652120"/>
                  <a:chOff x="3735720" y="1266120"/>
                  <a:chExt cx="3599280" cy="2652120"/>
                </a:xfrm>
              </p:grpSpPr>
              <p:sp>
                <p:nvSpPr>
                  <p:cNvPr id="52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2" name=""/>
                <p:cNvGrpSpPr/>
                <p:nvPr/>
              </p:nvGrpSpPr>
              <p:grpSpPr>
                <a:xfrm>
                  <a:off x="2010960" y="245520"/>
                  <a:ext cx="6891120" cy="5452200"/>
                  <a:chOff x="2010960" y="245520"/>
                  <a:chExt cx="6891120" cy="5452200"/>
                </a:xfrm>
              </p:grpSpPr>
              <p:grpSp>
                <p:nvGrpSpPr>
                  <p:cNvPr id="523" name=""/>
                  <p:cNvGrpSpPr/>
                  <p:nvPr/>
                </p:nvGrpSpPr>
                <p:grpSpPr>
                  <a:xfrm>
                    <a:off x="5762160" y="2322000"/>
                    <a:ext cx="2558520" cy="2742840"/>
                    <a:chOff x="5762160" y="2322000"/>
                    <a:chExt cx="2558520" cy="2742840"/>
                  </a:xfrm>
                </p:grpSpPr>
                <p:sp>
                  <p:nvSpPr>
                    <p:cNvPr id="52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26" name=""/>
                  <p:cNvGrpSpPr/>
                  <p:nvPr/>
                </p:nvGrpSpPr>
                <p:grpSpPr>
                  <a:xfrm>
                    <a:off x="5787720" y="2148480"/>
                    <a:ext cx="3040200" cy="2529360"/>
                    <a:chOff x="5787720" y="2148480"/>
                    <a:chExt cx="3040200" cy="2529360"/>
                  </a:xfrm>
                </p:grpSpPr>
                <p:sp>
                  <p:nvSpPr>
                    <p:cNvPr id="52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2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29" name=""/>
                  <p:cNvGrpSpPr/>
                  <p:nvPr/>
                </p:nvGrpSpPr>
                <p:grpSpPr>
                  <a:xfrm>
                    <a:off x="5776200" y="2065320"/>
                    <a:ext cx="3096360" cy="1992600"/>
                    <a:chOff x="5776200" y="2065320"/>
                    <a:chExt cx="3096360" cy="1992600"/>
                  </a:xfrm>
                </p:grpSpPr>
                <p:sp>
                  <p:nvSpPr>
                    <p:cNvPr id="53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2" name=""/>
                  <p:cNvGrpSpPr/>
                  <p:nvPr/>
                </p:nvGrpSpPr>
                <p:grpSpPr>
                  <a:xfrm>
                    <a:off x="5768280" y="1970280"/>
                    <a:ext cx="3133800" cy="1608120"/>
                    <a:chOff x="5768280" y="1970280"/>
                    <a:chExt cx="3133800" cy="1608120"/>
                  </a:xfrm>
                </p:grpSpPr>
                <p:sp>
                  <p:nvSpPr>
                    <p:cNvPr id="53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5" name=""/>
                  <p:cNvGrpSpPr/>
                  <p:nvPr/>
                </p:nvGrpSpPr>
                <p:grpSpPr>
                  <a:xfrm>
                    <a:off x="5806080" y="1879920"/>
                    <a:ext cx="2940120" cy="1001880"/>
                    <a:chOff x="5806080" y="1879920"/>
                    <a:chExt cx="2940120" cy="1001880"/>
                  </a:xfrm>
                </p:grpSpPr>
                <p:sp>
                  <p:nvSpPr>
                    <p:cNvPr id="53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3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38" name=""/>
                  <p:cNvGrpSpPr/>
                  <p:nvPr/>
                </p:nvGrpSpPr>
                <p:grpSpPr>
                  <a:xfrm>
                    <a:off x="5851440" y="1815480"/>
                    <a:ext cx="2658600" cy="446040"/>
                    <a:chOff x="5851440" y="1815480"/>
                    <a:chExt cx="2658600" cy="446040"/>
                  </a:xfrm>
                </p:grpSpPr>
                <p:sp>
                  <p:nvSpPr>
                    <p:cNvPr id="53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1" name=""/>
                  <p:cNvGrpSpPr/>
                  <p:nvPr/>
                </p:nvGrpSpPr>
                <p:grpSpPr>
                  <a:xfrm>
                    <a:off x="5788440" y="1303920"/>
                    <a:ext cx="2364120" cy="787320"/>
                    <a:chOff x="5788440" y="1303920"/>
                    <a:chExt cx="2364120" cy="787320"/>
                  </a:xfrm>
                </p:grpSpPr>
                <p:sp>
                  <p:nvSpPr>
                    <p:cNvPr id="54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44" name=""/>
                  <p:cNvGrpSpPr/>
                  <p:nvPr/>
                </p:nvGrpSpPr>
                <p:grpSpPr>
                  <a:xfrm>
                    <a:off x="2646720" y="2473920"/>
                    <a:ext cx="2556720" cy="2742120"/>
                    <a:chOff x="2646720" y="2473920"/>
                    <a:chExt cx="2556720" cy="2742120"/>
                  </a:xfrm>
                </p:grpSpPr>
                <p:sp>
                  <p:nvSpPr>
                    <p:cNvPr id="54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47" name=""/>
                  <p:cNvGrpSpPr/>
                  <p:nvPr/>
                </p:nvGrpSpPr>
                <p:grpSpPr>
                  <a:xfrm>
                    <a:off x="2085120" y="2366640"/>
                    <a:ext cx="3041280" cy="2529720"/>
                    <a:chOff x="2085120" y="2366640"/>
                    <a:chExt cx="3041280" cy="2529720"/>
                  </a:xfrm>
                </p:grpSpPr>
                <p:sp>
                  <p:nvSpPr>
                    <p:cNvPr id="54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4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0" name=""/>
                  <p:cNvGrpSpPr/>
                  <p:nvPr/>
                </p:nvGrpSpPr>
                <p:grpSpPr>
                  <a:xfrm>
                    <a:off x="2040840" y="2283480"/>
                    <a:ext cx="3096360" cy="1992600"/>
                    <a:chOff x="2040840" y="2283480"/>
                    <a:chExt cx="3096360" cy="1992600"/>
                  </a:xfrm>
                </p:grpSpPr>
                <p:sp>
                  <p:nvSpPr>
                    <p:cNvPr id="55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3" name=""/>
                  <p:cNvGrpSpPr/>
                  <p:nvPr/>
                </p:nvGrpSpPr>
                <p:grpSpPr>
                  <a:xfrm>
                    <a:off x="2010960" y="2188440"/>
                    <a:ext cx="3134160" cy="1607760"/>
                    <a:chOff x="2010960" y="2188440"/>
                    <a:chExt cx="3134160" cy="1607760"/>
                  </a:xfrm>
                </p:grpSpPr>
                <p:sp>
                  <p:nvSpPr>
                    <p:cNvPr id="55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6" name=""/>
                  <p:cNvGrpSpPr/>
                  <p:nvPr/>
                </p:nvGrpSpPr>
                <p:grpSpPr>
                  <a:xfrm>
                    <a:off x="2166120" y="2098080"/>
                    <a:ext cx="2940840" cy="1002240"/>
                    <a:chOff x="2166120" y="2098080"/>
                    <a:chExt cx="2940840" cy="1002240"/>
                  </a:xfrm>
                </p:grpSpPr>
                <p:sp>
                  <p:nvSpPr>
                    <p:cNvPr id="55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5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59" name=""/>
                  <p:cNvGrpSpPr/>
                  <p:nvPr/>
                </p:nvGrpSpPr>
                <p:grpSpPr>
                  <a:xfrm>
                    <a:off x="2403720" y="2033640"/>
                    <a:ext cx="2658600" cy="446040"/>
                    <a:chOff x="2403720" y="2033640"/>
                    <a:chExt cx="2658600" cy="446040"/>
                  </a:xfrm>
                </p:grpSpPr>
                <p:sp>
                  <p:nvSpPr>
                    <p:cNvPr id="56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562" name=""/>
                  <p:cNvGrpSpPr/>
                  <p:nvPr/>
                </p:nvGrpSpPr>
                <p:grpSpPr>
                  <a:xfrm>
                    <a:off x="2760840" y="1522440"/>
                    <a:ext cx="2363760" cy="787320"/>
                    <a:chOff x="2760840" y="1522440"/>
                    <a:chExt cx="2363760" cy="787320"/>
                  </a:xfrm>
                </p:grpSpPr>
                <p:sp>
                  <p:nvSpPr>
                    <p:cNvPr id="56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5" name=""/>
                  <p:cNvGrpSpPr/>
                  <p:nvPr/>
                </p:nvGrpSpPr>
                <p:grpSpPr>
                  <a:xfrm>
                    <a:off x="2887200" y="1236600"/>
                    <a:ext cx="2325240" cy="1084320"/>
                    <a:chOff x="2887200" y="1236600"/>
                    <a:chExt cx="2325240" cy="1084320"/>
                  </a:xfrm>
                </p:grpSpPr>
                <p:sp>
                  <p:nvSpPr>
                    <p:cNvPr id="56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6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68" name=""/>
                  <p:cNvGrpSpPr/>
                  <p:nvPr/>
                </p:nvGrpSpPr>
                <p:grpSpPr>
                  <a:xfrm>
                    <a:off x="3160440" y="831240"/>
                    <a:ext cx="2170800" cy="1508040"/>
                    <a:chOff x="3160440" y="831240"/>
                    <a:chExt cx="2170800" cy="1508040"/>
                  </a:xfrm>
                </p:grpSpPr>
                <p:sp>
                  <p:nvSpPr>
                    <p:cNvPr id="56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1" name=""/>
                  <p:cNvGrpSpPr/>
                  <p:nvPr/>
                </p:nvGrpSpPr>
                <p:grpSpPr>
                  <a:xfrm>
                    <a:off x="3437640" y="436320"/>
                    <a:ext cx="1987200" cy="1831320"/>
                    <a:chOff x="3437640" y="436320"/>
                    <a:chExt cx="1987200" cy="1831320"/>
                  </a:xfrm>
                </p:grpSpPr>
                <p:sp>
                  <p:nvSpPr>
                    <p:cNvPr id="57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4" name=""/>
                  <p:cNvGrpSpPr/>
                  <p:nvPr/>
                </p:nvGrpSpPr>
                <p:grpSpPr>
                  <a:xfrm>
                    <a:off x="4026960" y="335520"/>
                    <a:ext cx="1461240" cy="1885680"/>
                    <a:chOff x="4026960" y="335520"/>
                    <a:chExt cx="1461240" cy="1885680"/>
                  </a:xfrm>
                </p:grpSpPr>
                <p:sp>
                  <p:nvSpPr>
                    <p:cNvPr id="57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77" name=""/>
                  <p:cNvGrpSpPr/>
                  <p:nvPr/>
                </p:nvGrpSpPr>
                <p:grpSpPr>
                  <a:xfrm>
                    <a:off x="4448160" y="245520"/>
                    <a:ext cx="1121760" cy="1946520"/>
                    <a:chOff x="4448160" y="245520"/>
                    <a:chExt cx="1121760" cy="1946520"/>
                  </a:xfrm>
                </p:grpSpPr>
                <p:sp>
                  <p:nvSpPr>
                    <p:cNvPr id="57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7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0" name=""/>
                  <p:cNvGrpSpPr/>
                  <p:nvPr/>
                </p:nvGrpSpPr>
                <p:grpSpPr>
                  <a:xfrm>
                    <a:off x="5661720" y="952560"/>
                    <a:ext cx="2317320" cy="1112040"/>
                    <a:chOff x="5661720" y="952560"/>
                    <a:chExt cx="2317320" cy="1112040"/>
                  </a:xfrm>
                </p:grpSpPr>
                <p:sp>
                  <p:nvSpPr>
                    <p:cNvPr id="58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83" name=""/>
                  <p:cNvGrpSpPr/>
                  <p:nvPr/>
                </p:nvGrpSpPr>
                <p:grpSpPr>
                  <a:xfrm>
                    <a:off x="5529600" y="626400"/>
                    <a:ext cx="2198880" cy="1451160"/>
                    <a:chOff x="5529600" y="626400"/>
                    <a:chExt cx="2198880" cy="1451160"/>
                  </a:xfrm>
                </p:grpSpPr>
                <p:sp>
                  <p:nvSpPr>
                    <p:cNvPr id="58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8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58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588" name=""/>
                  <p:cNvGrpSpPr/>
                  <p:nvPr/>
                </p:nvGrpSpPr>
                <p:grpSpPr>
                  <a:xfrm>
                    <a:off x="5355720" y="270000"/>
                    <a:ext cx="1196280" cy="1901160"/>
                    <a:chOff x="5355720" y="270000"/>
                    <a:chExt cx="1196280" cy="1901160"/>
                  </a:xfrm>
                </p:grpSpPr>
                <p:sp>
                  <p:nvSpPr>
                    <p:cNvPr id="58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1" name=""/>
                  <p:cNvGrpSpPr/>
                  <p:nvPr/>
                </p:nvGrpSpPr>
                <p:grpSpPr>
                  <a:xfrm>
                    <a:off x="5347440" y="388800"/>
                    <a:ext cx="1891440" cy="1796760"/>
                    <a:chOff x="5347440" y="388800"/>
                    <a:chExt cx="1891440" cy="1796760"/>
                  </a:xfrm>
                </p:grpSpPr>
                <p:sp>
                  <p:nvSpPr>
                    <p:cNvPr id="59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4" name=""/>
                  <p:cNvGrpSpPr/>
                  <p:nvPr/>
                </p:nvGrpSpPr>
                <p:grpSpPr>
                  <a:xfrm>
                    <a:off x="5458320" y="292680"/>
                    <a:ext cx="426960" cy="1795320"/>
                    <a:chOff x="5458320" y="292680"/>
                    <a:chExt cx="426960" cy="1795320"/>
                  </a:xfrm>
                </p:grpSpPr>
                <p:sp>
                  <p:nvSpPr>
                    <p:cNvPr id="59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597" name=""/>
                  <p:cNvGrpSpPr/>
                  <p:nvPr/>
                </p:nvGrpSpPr>
                <p:grpSpPr>
                  <a:xfrm>
                    <a:off x="3062880" y="2530440"/>
                    <a:ext cx="2195280" cy="3003480"/>
                    <a:chOff x="3062880" y="2530440"/>
                    <a:chExt cx="2195280" cy="3003480"/>
                  </a:xfrm>
                </p:grpSpPr>
                <p:sp>
                  <p:nvSpPr>
                    <p:cNvPr id="59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59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0" name=""/>
                  <p:cNvGrpSpPr/>
                  <p:nvPr/>
                </p:nvGrpSpPr>
                <p:grpSpPr>
                  <a:xfrm>
                    <a:off x="3791520" y="2650320"/>
                    <a:ext cx="1482840" cy="3000240"/>
                    <a:chOff x="3791520" y="2650320"/>
                    <a:chExt cx="1482840" cy="3000240"/>
                  </a:xfrm>
                </p:grpSpPr>
                <p:sp>
                  <p:nvSpPr>
                    <p:cNvPr id="60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3" name=""/>
                  <p:cNvGrpSpPr/>
                  <p:nvPr/>
                </p:nvGrpSpPr>
                <p:grpSpPr>
                  <a:xfrm>
                    <a:off x="4509000" y="2703240"/>
                    <a:ext cx="874800" cy="2927520"/>
                    <a:chOff x="4509000" y="2703240"/>
                    <a:chExt cx="874800" cy="2927520"/>
                  </a:xfrm>
                </p:grpSpPr>
                <p:sp>
                  <p:nvSpPr>
                    <p:cNvPr id="60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sp>
                  <p:nvSpPr>
                    <p:cNvPr id="60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6" name=""/>
                  <p:cNvGrpSpPr/>
                  <p:nvPr/>
                </p:nvGrpSpPr>
                <p:grpSpPr>
                  <a:xfrm>
                    <a:off x="5678280" y="2482920"/>
                    <a:ext cx="2280240" cy="2953800"/>
                    <a:chOff x="5678280" y="2482920"/>
                    <a:chExt cx="2280240" cy="2953800"/>
                  </a:xfrm>
                </p:grpSpPr>
                <p:sp>
                  <p:nvSpPr>
                    <p:cNvPr id="60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09" name=""/>
                  <p:cNvGrpSpPr/>
                  <p:nvPr/>
                </p:nvGrpSpPr>
                <p:grpSpPr>
                  <a:xfrm>
                    <a:off x="5648400" y="2593440"/>
                    <a:ext cx="1758240" cy="3032280"/>
                    <a:chOff x="5648400" y="2593440"/>
                    <a:chExt cx="1758240" cy="3032280"/>
                  </a:xfrm>
                </p:grpSpPr>
                <p:sp>
                  <p:nvSpPr>
                    <p:cNvPr id="61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eaeaea"/>
                        </a:solidFill>
                        <a:latin typeface="Arial"/>
                      </a:endParaRPr>
                    </a:p>
                  </p:txBody>
                </p:sp>
              </p:grpSp>
              <p:grpSp>
                <p:nvGrpSpPr>
                  <p:cNvPr id="612" name=""/>
                  <p:cNvGrpSpPr/>
                  <p:nvPr/>
                </p:nvGrpSpPr>
                <p:grpSpPr>
                  <a:xfrm>
                    <a:off x="5576400" y="2710800"/>
                    <a:ext cx="1224720" cy="2986920"/>
                    <a:chOff x="5576400" y="2710800"/>
                    <a:chExt cx="1224720" cy="2986920"/>
                  </a:xfrm>
                </p:grpSpPr>
                <p:sp>
                  <p:nvSpPr>
                    <p:cNvPr id="61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5" name=""/>
                  <p:cNvGrpSpPr/>
                  <p:nvPr/>
                </p:nvGrpSpPr>
                <p:grpSpPr>
                  <a:xfrm>
                    <a:off x="5521320" y="2840760"/>
                    <a:ext cx="696960" cy="2777400"/>
                    <a:chOff x="5521320" y="2840760"/>
                    <a:chExt cx="696960" cy="2777400"/>
                  </a:xfrm>
                </p:grpSpPr>
                <p:sp>
                  <p:nvSpPr>
                    <p:cNvPr id="61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618" name=""/>
                  <p:cNvGrpSpPr/>
                  <p:nvPr/>
                </p:nvGrpSpPr>
                <p:grpSpPr>
                  <a:xfrm>
                    <a:off x="4960800" y="2887560"/>
                    <a:ext cx="663480" cy="2717640"/>
                    <a:chOff x="4960800" y="2887560"/>
                    <a:chExt cx="663480" cy="2717640"/>
                  </a:xfrm>
                </p:grpSpPr>
                <p:sp>
                  <p:nvSpPr>
                    <p:cNvPr id="61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grpSp>
            <p:nvGrpSpPr>
              <p:cNvPr id="621" name=""/>
              <p:cNvGrpSpPr/>
              <p:nvPr/>
            </p:nvGrpSpPr>
            <p:grpSpPr>
              <a:xfrm>
                <a:off x="2175120" y="682560"/>
                <a:ext cx="6963840" cy="7268760"/>
                <a:chOff x="2175120" y="682560"/>
                <a:chExt cx="6963840" cy="7268760"/>
              </a:xfrm>
            </p:grpSpPr>
            <p:grpSp>
              <p:nvGrpSpPr>
                <p:cNvPr id="622" name=""/>
                <p:cNvGrpSpPr/>
                <p:nvPr/>
              </p:nvGrpSpPr>
              <p:grpSpPr>
                <a:xfrm>
                  <a:off x="2175120" y="682560"/>
                  <a:ext cx="6963840" cy="7268760"/>
                  <a:chOff x="2175120" y="682560"/>
                  <a:chExt cx="6963840" cy="7268760"/>
                </a:xfrm>
              </p:grpSpPr>
              <p:sp>
                <p:nvSpPr>
                  <p:cNvPr id="62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63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grpSp>
          <p:nvGrpSpPr>
            <p:cNvPr id="631" name=""/>
            <p:cNvGrpSpPr/>
            <p:nvPr/>
          </p:nvGrpSpPr>
          <p:grpSpPr>
            <a:xfrm>
              <a:off x="2342880" y="712800"/>
              <a:ext cx="6410160" cy="7456320"/>
              <a:chOff x="2342880" y="712800"/>
              <a:chExt cx="6410160" cy="7456320"/>
            </a:xfrm>
          </p:grpSpPr>
          <p:sp>
            <p:nvSpPr>
              <p:cNvPr id="63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sp>
        <p:nvSpPr>
          <p:cNvPr id="64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4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4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4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8BBC-B64D-4CA6-9C7A-A6A4C28D5D54}" type="slidenum">
              <a:rPr b="0" lang="en-GB"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6" name=""/>
          <p:cNvGrpSpPr/>
          <p:nvPr/>
        </p:nvGrpSpPr>
        <p:grpSpPr>
          <a:xfrm>
            <a:off x="228600" y="228600"/>
            <a:ext cx="8686800" cy="5943600"/>
            <a:chOff x="228600" y="228600"/>
            <a:chExt cx="8686800" cy="5943600"/>
          </a:xfrm>
        </p:grpSpPr>
        <p:sp>
          <p:nvSpPr>
            <p:cNvPr id="687"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8"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9"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69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9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92"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93"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9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5333-BFA4-401F-9297-E04F66DD064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1" name=""/>
          <p:cNvGrpSpPr/>
          <p:nvPr/>
        </p:nvGrpSpPr>
        <p:grpSpPr>
          <a:xfrm>
            <a:off x="380880" y="457200"/>
            <a:ext cx="8398080" cy="5562720"/>
            <a:chOff x="380880" y="457200"/>
            <a:chExt cx="8398080" cy="5562720"/>
          </a:xfrm>
        </p:grpSpPr>
        <p:sp>
          <p:nvSpPr>
            <p:cNvPr id="732"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4"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sp>
        <p:nvSpPr>
          <p:cNvPr id="73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736"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37"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38"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DE89-96A5-4268-8137-5AE403C0A2A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0" y="0"/>
            <a:ext cx="2666880" cy="6858000"/>
            <a:chOff x="0" y="0"/>
            <a:chExt cx="2666880" cy="6858000"/>
          </a:xfrm>
        </p:grpSpPr>
        <p:sp>
          <p:nvSpPr>
            <p:cNvPr id="776"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777" name="" descr=""/>
            <p:cNvPicPr/>
            <p:nvPr/>
          </p:nvPicPr>
          <p:blipFill>
            <a:blip r:embed="rId2"/>
            <a:stretch/>
          </p:blipFill>
          <p:spPr>
            <a:xfrm>
              <a:off x="0" y="0"/>
              <a:ext cx="2139840" cy="6858000"/>
            </a:xfrm>
            <a:prstGeom prst="rect">
              <a:avLst/>
            </a:prstGeom>
            <a:ln w="0">
              <a:noFill/>
            </a:ln>
          </p:spPr>
        </p:pic>
      </p:grpSp>
      <p:sp>
        <p:nvSpPr>
          <p:cNvPr id="7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7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0"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A908-4CA5-446A-82ED-F444D1D8265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Remuera" TargetMode="External"/><Relationship Id="rId3" Type="http://schemas.openxmlformats.org/officeDocument/2006/relationships/hyperlink" Target="http://en.wikipedia.org/wiki/Auckland" TargetMode="External"/><Relationship Id="rId4" Type="http://schemas.openxmlformats.org/officeDocument/2006/relationships/hyperlink" Target="http://en.wikipedia.org/wiki/Charles_Kingsford_Smith" TargetMode="External"/><Relationship Id="rId5" Type="http://schemas.openxmlformats.org/officeDocument/2006/relationships/hyperlink" Target="http://en.wikipedia.org/wiki/Southern_Cross_(aircraft)" TargetMode="External"/><Relationship Id="rId6" Type="http://schemas.openxmlformats.org/officeDocument/2006/relationships/slideLayout" Target="../slideLayouts/slideLayout14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hyperlink" Target="http://en.wikipedia.org/wiki/House_system" TargetMode="External"/><Relationship Id="rId2" Type="http://schemas.openxmlformats.org/officeDocument/2006/relationships/hyperlink" Target="http://en.wikipedia.org/wiki/Macleans_College" TargetMode="External"/><Relationship Id="rId3"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37ff01"/>
                </a:solidFill>
                <a:latin typeface="Arial"/>
              </a:rPr>
              <a:t>JEAN BATTEN</a:t>
            </a:r>
            <a:endParaRPr b="0" lang="en-US" sz="5400" spc="-1" strike="noStrike">
              <a:solidFill>
                <a:srgbClr val="ccecff"/>
              </a:solidFill>
              <a:latin typeface="Arial"/>
            </a:endParaRPr>
          </a:p>
        </p:txBody>
      </p:sp>
      <p:sp>
        <p:nvSpPr>
          <p:cNvPr id="12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A power point made by Eri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1209"/>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1210">
                                            <p:txEl>
                                              <p:pRg st="0" end="0"/>
                                            </p:txEl>
                                          </p:spTgt>
                                        </p:tgtEl>
                                        <p:attrNameLst>
                                          <p:attrName>style.visibility</p:attrName>
                                        </p:attrNameLst>
                                      </p:cBhvr>
                                      <p:to>
                                        <p:strVal val="visible"/>
                                      </p:to>
                                    </p:set>
                                    <p:animEffect filter="fade" transition="in">
                                      <p:cBhvr additive="repl">
                                        <p:cTn id="11" dur="1000"/>
                                        <p:tgtEl>
                                          <p:spTgt spid="1210">
                                            <p:txEl>
                                              <p:pRg st="0" end="0"/>
                                            </p:txEl>
                                          </p:spTgt>
                                        </p:tgtEl>
                                      </p:cBhvr>
                                    </p:animEffect>
                                    <p:anim calcmode="lin" valueType="num">
                                      <p:cBhvr additive="repl">
                                        <p:cTn id="12" dur="1000" fill="hold"/>
                                        <p:tgtEl>
                                          <p:spTgt spid="1210">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1210">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121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Jean’s life</a:t>
            </a:r>
            <a:endParaRPr b="0" lang="en-US" sz="4400" spc="-1" strike="noStrike">
              <a:solidFill>
                <a:srgbClr val="ccecff"/>
              </a:solidFill>
              <a:latin typeface="Arial"/>
            </a:endParaRPr>
          </a:p>
        </p:txBody>
      </p:sp>
      <p:sp>
        <p:nvSpPr>
          <p:cNvPr id="1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ean Batten was born in Rotorua on September the 15 1909, from an early age Jean was encouraged by her mother Ellen to compete in traditionally male careers.</a:t>
            </a:r>
            <a:br>
              <a:rPr sz="2000"/>
            </a:br>
            <a:br>
              <a:rPr sz="2000"/>
            </a:br>
            <a:r>
              <a:rPr b="0" lang="en-US" sz="2000" spc="-1" strike="noStrike">
                <a:solidFill>
                  <a:srgbClr val="ffffff"/>
                </a:solidFill>
                <a:latin typeface="Verdana"/>
              </a:rPr>
              <a:t>In 1924 aged 15 Batten enrolled at secretarial school and began to study ballet and the piano with the goal of becoming a professional performer. In 1927 </a:t>
            </a:r>
            <a:br>
              <a:rPr sz="2000"/>
            </a:br>
            <a:r>
              <a:rPr b="0" lang="en-US" sz="2000" spc="-1" strike="noStrike">
                <a:solidFill>
                  <a:srgbClr val="ffffff"/>
                </a:solidFill>
                <a:latin typeface="Verdana"/>
              </a:rPr>
              <a:t>she found a new ambition: when pilot Charles Lindbergh made non-stop crossing of the Ocean, Jean Batten decided she wanted to fly. In 1929 Ellen took Batten to Sydney,</a:t>
            </a:r>
            <a:br>
              <a:rPr sz="2000"/>
            </a:br>
            <a:r>
              <a:rPr b="0" lang="en-US" sz="2000" spc="-1" strike="noStrike">
                <a:solidFill>
                  <a:srgbClr val="ffffff"/>
                </a:solidFill>
                <a:latin typeface="Verdana"/>
              </a:rPr>
              <a:t>to fly with the Australian pilot Charles Kingsford Smith. The next year she and Ellen sailed to England, where Batten learnt to fly at the London Aeroplane Club, gaining her "A" licence in December 1930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9">
                                  <p:stCondLst>
                                    <p:cond delay="0"/>
                                  </p:stCondLst>
                                  <p:childTnLst>
                                    <p:set>
                                      <p:cBhvr>
                                        <p:cTn id="20" dur="1" fill="hold">
                                          <p:stCondLst>
                                            <p:cond delay="0"/>
                                          </p:stCondLst>
                                        </p:cTn>
                                        <p:tgtEl>
                                          <p:spTgt spid="1211"/>
                                        </p:tgtEl>
                                        <p:attrNameLst>
                                          <p:attrName>style.visibility</p:attrName>
                                        </p:attrNameLst>
                                      </p:cBhvr>
                                      <p:to>
                                        <p:strVal val="visible"/>
                                      </p:to>
                                    </p:set>
                                    <p:animEffect filter="dissolve" transition="in">
                                      <p:cBhvr additive="repl">
                                        <p:cTn id="21" dur="500"/>
                                        <p:tgtEl>
                                          <p:spTgt spid="121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212">
                                            <p:txEl>
                                              <p:pRg st="0" end="0"/>
                                            </p:txEl>
                                          </p:spTgt>
                                        </p:tgtEl>
                                        <p:attrNameLst>
                                          <p:attrName>style.visibility</p:attrName>
                                        </p:attrNameLst>
                                      </p:cBhvr>
                                      <p:to>
                                        <p:strVal val="visible"/>
                                      </p:to>
                                    </p:set>
                                    <p:animEffect filter="dissolve" transition="in">
                                      <p:cBhvr additive="repl">
                                        <p:cTn id="26" dur="500"/>
                                        <p:tgtEl>
                                          <p:spTgt spid="1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How she became a pilot!</a:t>
            </a:r>
            <a:endParaRPr b="0" lang="en-US" sz="4400" spc="-1" strike="noStrike">
              <a:solidFill>
                <a:srgbClr val="b7e7ff"/>
              </a:solidFill>
              <a:latin typeface="Arial"/>
            </a:endParaRPr>
          </a:p>
        </p:txBody>
      </p:sp>
      <p:sp>
        <p:nvSpPr>
          <p:cNvPr id="121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Batten was the daughter of a dental surgeon and a mother who became a strong supporter of her career as a pilot. In 1924 she was enrolled into a girls' boarding college in </a:t>
            </a:r>
            <a:r>
              <a:rPr b="0" lang="en-US" sz="2800" spc="-1" strike="noStrike" u="sng">
                <a:solidFill>
                  <a:srgbClr val="ffcc00"/>
                </a:solidFill>
                <a:uFillTx/>
                <a:latin typeface="Arial"/>
                <a:hlinkClick r:id="rId2"/>
              </a:rPr>
              <a:t>Remuera</a:t>
            </a:r>
            <a:r>
              <a:rPr b="0" lang="en-US" sz="2800" spc="-1" strike="noStrike" u="sng">
                <a:solidFill>
                  <a:srgbClr val="ffffff"/>
                </a:solidFill>
                <a:uFillTx/>
                <a:latin typeface="Arial"/>
              </a:rPr>
              <a:t> in </a:t>
            </a:r>
            <a:r>
              <a:rPr b="0" lang="en-US" sz="2800" spc="-1" strike="noStrike" u="sng">
                <a:solidFill>
                  <a:srgbClr val="ffcc00"/>
                </a:solidFill>
                <a:uFillTx/>
                <a:latin typeface="Arial"/>
                <a:hlinkClick r:id="rId3"/>
              </a:rPr>
              <a:t>Auckland</a:t>
            </a:r>
            <a:r>
              <a:rPr b="0" lang="en-US" sz="2800" spc="-1" strike="noStrike" u="sng">
                <a:solidFill>
                  <a:srgbClr val="ffffff"/>
                </a:solidFill>
                <a:uFillTx/>
                <a:latin typeface="Arial"/>
              </a:rPr>
              <a:t> where she studied ballet and piano. Though she was a gifted pianist, at the age of 18 she wanted to become a pilot, inspired by the Australian </a:t>
            </a:r>
            <a:r>
              <a:rPr b="0" lang="en-US" sz="2800" spc="-1" strike="noStrike" u="sng">
                <a:solidFill>
                  <a:srgbClr val="ffcc00"/>
                </a:solidFill>
                <a:uFillTx/>
                <a:latin typeface="Arial"/>
                <a:hlinkClick r:id="rId4"/>
              </a:rPr>
              <a:t>Charles Kingsford Smith</a:t>
            </a:r>
            <a:r>
              <a:rPr b="0" lang="en-US" sz="2800" spc="-1" strike="noStrike" u="sng">
                <a:solidFill>
                  <a:srgbClr val="ffffff"/>
                </a:solidFill>
                <a:uFillTx/>
                <a:latin typeface="Arial"/>
              </a:rPr>
              <a:t>, who took her for a flight in his </a:t>
            </a:r>
            <a:r>
              <a:rPr b="0" lang="en-US" sz="2800" spc="-1" strike="noStrike" u="sng">
                <a:solidFill>
                  <a:srgbClr val="ffcc00"/>
                </a:solidFill>
                <a:uFillTx/>
                <a:latin typeface="Arial"/>
                <a:hlinkClick r:id="rId5"/>
              </a:rPr>
              <a:t>Southern Cross</a:t>
            </a:r>
            <a:r>
              <a:rPr b="0" lang="en-US"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cc"/>
                </a:solidFill>
                <a:latin typeface="Arial"/>
              </a:rPr>
              <a:t>Her plane</a:t>
            </a:r>
            <a:endParaRPr b="0" lang="en-US" sz="4400" spc="-1" strike="noStrike">
              <a:solidFill>
                <a:srgbClr val="ffffcc"/>
              </a:solidFill>
              <a:latin typeface="Arial"/>
            </a:endParaRPr>
          </a:p>
        </p:txBody>
      </p:sp>
      <p:sp>
        <p:nvSpPr>
          <p:cNvPr id="1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ean Batten's Percival Gull at Auckland International Airport. Before being placed on display this aircraft took a final flight over Auckland for public viewing. Ironically, after the huge distance flown safely carrying Jean Batten, the aircraft developed engine trouble soon after takeoff. The short flight had to be cancelled and there are no further plans to fly G-ADPR again.</a:t>
            </a:r>
            <a:endParaRPr b="0" lang="en-US" sz="28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picture from before</a:t>
            </a:r>
            <a:endParaRPr b="0" lang="en-US" sz="4400" spc="-1" strike="noStrike">
              <a:solidFill>
                <a:srgbClr val="ccecff"/>
              </a:solidFill>
              <a:latin typeface="Arial"/>
            </a:endParaRPr>
          </a:p>
        </p:txBody>
      </p:sp>
      <p:sp>
        <p:nvSpPr>
          <p:cNvPr id="1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 </a:t>
            </a:r>
            <a:r>
              <a:rPr b="0" lang="en-NZ" sz="3200" spc="-1" strike="noStrike">
                <a:solidFill>
                  <a:srgbClr val="ffffff"/>
                </a:solidFill>
                <a:latin typeface="Verdana"/>
              </a:rPr>
              <a:t>Jean’s plane!</a:t>
            </a:r>
            <a:endParaRPr b="0" lang="en-US" sz="3200" spc="-1" strike="noStrike">
              <a:solidFill>
                <a:srgbClr val="ffffff"/>
              </a:solidFill>
              <a:latin typeface="Verdana"/>
            </a:endParaRPr>
          </a:p>
        </p:txBody>
      </p:sp>
      <p:pic>
        <p:nvPicPr>
          <p:cNvPr id="1219" name="" descr="Jean Batten's Percival Gull Aeroplane (Loadstar Copyright 1999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Times New Roman"/>
              </a:rPr>
              <a:t>Her records!</a:t>
            </a:r>
            <a:endParaRPr b="0" lang="en-US" sz="4400" spc="-1" strike="noStrike">
              <a:solidFill>
                <a:srgbClr val="ffffff"/>
              </a:solidFill>
              <a:latin typeface="Times New Roman"/>
            </a:endParaRPr>
          </a:p>
        </p:txBody>
      </p:sp>
      <p:sp>
        <p:nvSpPr>
          <p:cNvPr id="1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4 – England - Australia (women's record) 10,500 miles in 14 days 22 hours 30 minutes, breaking Amy Johnson's record by over four days.1</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5 – Australia - England in 17 days 15 hours. First woman ever to make a return fligh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5 – England - Brazil: 5000 miles in 61 hours 15 minutes, setting world record for any type of aeroplane. Also fastest crossing South Atlantic Ocean, 13¼ hours, and first woman to make England - South America fligh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936 – England - New Zealand. World record for any type. 14,224 miles in 11 days 45 minutes total elapsed time, including 2½ days in. </a:t>
            </a: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ays she is remembered</a:t>
            </a:r>
            <a:endParaRPr b="0" lang="en-US" sz="4400" spc="-1" strike="noStrike">
              <a:solidFill>
                <a:srgbClr val="ffffff"/>
              </a:solidFill>
              <a:latin typeface="Arial Black"/>
            </a:endParaRPr>
          </a:p>
        </p:txBody>
      </p:sp>
      <p:sp>
        <p:nvSpPr>
          <p:cNvPr id="1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Houses</a:t>
            </a:r>
            <a:r>
              <a:rPr b="0" lang="en-US" sz="3200" spc="-1" strike="noStrike" u="sng">
                <a:solidFill>
                  <a:srgbClr val="ffcc00"/>
                </a:solidFill>
                <a:uFillTx/>
                <a:latin typeface="Arial Black"/>
              </a:rPr>
              <a:t> in </a:t>
            </a:r>
            <a:r>
              <a:rPr b="0" lang="en-US" sz="3200" spc="-1" strike="noStrike" u="sng">
                <a:solidFill>
                  <a:srgbClr val="ff3399"/>
                </a:solidFill>
                <a:uFillTx/>
                <a:latin typeface="Arial Black"/>
                <a:hlinkClick r:id="rId2"/>
              </a:rPr>
              <a:t>Maclean's College</a:t>
            </a:r>
            <a:r>
              <a:rPr b="0" lang="en-US" sz="3200" spc="-1" strike="noStrike" u="sng">
                <a:solidFill>
                  <a:srgbClr val="ffcc00"/>
                </a:solidFill>
                <a:uFillTx/>
                <a:latin typeface="Arial Black"/>
              </a:rPr>
              <a:t>, Howick Intermediate and Westlake Girls High School are named after her, as is Batten (Blue) House at Orewa College and in the whanau system of Aorere College in South Auckland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7">
                                  <p:stCondLst>
                                    <p:cond delay="0"/>
                                  </p:stCondLst>
                                  <p:childTnLst>
                                    <p:set>
                                      <p:cBhvr>
                                        <p:cTn id="32" dur="1" fill="hold">
                                          <p:stCondLst>
                                            <p:cond delay="0"/>
                                          </p:stCondLst>
                                        </p:cTn>
                                        <p:tgtEl>
                                          <p:spTgt spid="1222"/>
                                        </p:tgtEl>
                                        <p:attrNameLst>
                                          <p:attrName>style.visibility</p:attrName>
                                        </p:attrNameLst>
                                      </p:cBhvr>
                                      <p:to>
                                        <p:strVal val="visible"/>
                                      </p:to>
                                    </p:set>
                                    <p:animEffect filter="fade" transition="in">
                                      <p:cBhvr additive="repl">
                                        <p:cTn id="33" dur="1000"/>
                                        <p:tgtEl>
                                          <p:spTgt spid="1222"/>
                                        </p:tgtEl>
                                      </p:cBhvr>
                                    </p:animEffect>
                                    <p:anim calcmode="lin" valueType="num">
                                      <p:cBhvr additive="repl">
                                        <p:cTn id="34" dur="1000" fill="hold"/>
                                        <p:tgtEl>
                                          <p:spTgt spid="1222"/>
                                        </p:tgtEl>
                                        <p:attrNameLst>
                                          <p:attrName>ppt_x</p:attrName>
                                        </p:attrNameLst>
                                      </p:cBhvr>
                                      <p:tavLst>
                                        <p:tav tm="0">
                                          <p:val>
                                            <p:strVal val="#ppt_x"/>
                                          </p:val>
                                        </p:tav>
                                        <p:tav tm="100000">
                                          <p:val>
                                            <p:strVal val="#ppt_x"/>
                                          </p:val>
                                        </p:tav>
                                      </p:tavLst>
                                    </p:anim>
                                    <p:anim calcmode="lin" valueType="num">
                                      <p:cBhvr additive="repl">
                                        <p:cTn id="35" dur="1000" fill="hold"/>
                                        <p:tgtEl>
                                          <p:spTgt spid="1222"/>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223">
                                            <p:txEl>
                                              <p:pRg st="0" end="0"/>
                                            </p:txEl>
                                          </p:spTgt>
                                        </p:tgtEl>
                                        <p:attrNameLst>
                                          <p:attrName>style.visibility</p:attrName>
                                        </p:attrNameLst>
                                      </p:cBhvr>
                                      <p:to>
                                        <p:strVal val="visible"/>
                                      </p:to>
                                    </p:set>
                                    <p:anim calcmode="lin" valueType="num">
                                      <p:cBhvr additive="base">
                                        <p:cTn id="40" dur="1000" fill="hold">
                                          <p:stCondLst>
                                            <p:cond delay="0"/>
                                          </p:stCondLst>
                                        </p:cTn>
                                        <p:tgtEl>
                                          <p:spTgt spid="1223">
                                            <p:txEl>
                                              <p:pRg st="0" end="0"/>
                                            </p:txEl>
                                          </p:spTgt>
                                        </p:tgtEl>
                                        <p:attrNameLst>
                                          <p:attrName>ppt_x</p:attrName>
                                        </p:attrNameLst>
                                      </p:cBhvr>
                                      <p:tavLst>
                                        <p:tav tm="0">
                                          <p:val>
                                            <p:strVal val="#ppt_x"/>
                                          </p:val>
                                        </p:tav>
                                        <p:tav tm="100000">
                                          <p:val>
                                            <p:strVal val="#ppt_x"/>
                                          </p:val>
                                        </p:tav>
                                      </p:tavLst>
                                    </p:anim>
                                    <p:anim calcmode="lin" valueType="num">
                                      <p:cBhvr additive="base">
                                        <p:cTn id="41" dur="1000" fill="hold">
                                          <p:stCondLst>
                                            <p:cond delay="0"/>
                                          </p:stCondLst>
                                        </p:cTn>
                                        <p:tgtEl>
                                          <p:spTgt spid="12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8c0039"/>
                </a:solidFill>
                <a:latin typeface="Arial"/>
              </a:rPr>
              <a:t>A SMART SAYING</a:t>
            </a:r>
            <a:endParaRPr b="0" lang="en-US" sz="3600" spc="-1" strike="noStrike">
              <a:solidFill>
                <a:srgbClr val="8c0039"/>
              </a:solidFill>
              <a:latin typeface="Arial"/>
            </a:endParaRPr>
          </a:p>
        </p:txBody>
      </p:sp>
      <p:sp>
        <p:nvSpPr>
          <p:cNvPr id="122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flyer who ventures across oceans to distant lands is a potential explorer; in his or her breast burns the same fire that urged adventurers of old to set forth in their sailing ships for foreign lands." –Jean Batten.</a:t>
            </a:r>
            <a:endParaRPr b="0" lang="en-US" sz="3200" spc="-1" strike="noStrike">
              <a:solidFill>
                <a:srgbClr val="000000"/>
              </a:solidFill>
              <a:latin typeface="Arial"/>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0">
                                  <p:stCondLst>
                                    <p:cond delay="0"/>
                                  </p:stCondLst>
                                  <p:childTnLst>
                                    <p:set>
                                      <p:cBhvr>
                                        <p:cTn id="47" dur="1" fill="hold">
                                          <p:stCondLst>
                                            <p:cond delay="0"/>
                                          </p:stCondLst>
                                        </p:cTn>
                                        <p:tgtEl>
                                          <p:spTgt spid="1224"/>
                                        </p:tgtEl>
                                        <p:attrNameLst>
                                          <p:attrName>style.visibility</p:attrName>
                                        </p:attrNameLst>
                                      </p:cBhvr>
                                      <p:to>
                                        <p:strVal val="visible"/>
                                      </p:to>
                                    </p:set>
                                    <p:animEffect filter="fade" transition="in">
                                      <p:cBhvr additive="repl">
                                        <p:cTn id="48" dur="800"/>
                                        <p:tgtEl>
                                          <p:spTgt spid="1224"/>
                                        </p:tgtEl>
                                      </p:cBhvr>
                                    </p:animEffect>
                                    <p:anim calcmode="lin" valueType="num">
                                      <p:cBhvr additive="repl">
                                        <p:cTn id="49" dur="800" fill="hold"/>
                                        <p:tgtEl>
                                          <p:spTgt spid="1224"/>
                                        </p:tgtEl>
                                        <p:attrNameLst>
                                          <p:attrName>r</p:attrName>
                                        </p:attrNameLst>
                                      </p:cBhvr>
                                      <p:tavLst>
                                        <p:tav tm="0">
                                          <p:val>
                                            <p:strVal val="-90"/>
                                          </p:val>
                                        </p:tav>
                                        <p:tav tm="100000">
                                          <p:val>
                                            <p:strVal val="0"/>
                                          </p:val>
                                        </p:tav>
                                      </p:tavLst>
                                    </p:anim>
                                    <p:anim calcmode="lin" valueType="num">
                                      <p:cBhvr additive="repl">
                                        <p:cTn id="50" dur="800" fill="hold"/>
                                        <p:tgtEl>
                                          <p:spTgt spid="1224"/>
                                        </p:tgtEl>
                                        <p:attrNameLst>
                                          <p:attrName>ppt_x</p:attrName>
                                        </p:attrNameLst>
                                      </p:cBhvr>
                                      <p:tavLst>
                                        <p:tav tm="0">
                                          <p:val>
                                            <p:strVal val="#ppt_x+0.4"/>
                                          </p:val>
                                        </p:tav>
                                        <p:tav tm="100000">
                                          <p:val>
                                            <p:strVal val="#ppt_x-0.05"/>
                                          </p:val>
                                        </p:tav>
                                      </p:tavLst>
                                    </p:anim>
                                    <p:anim calcmode="lin" valueType="num">
                                      <p:cBhvr additive="repl">
                                        <p:cTn id="51" dur="800" fill="hold"/>
                                        <p:tgtEl>
                                          <p:spTgt spid="1224"/>
                                        </p:tgtEl>
                                        <p:attrNameLst>
                                          <p:attrName>ppt_y</p:attrName>
                                        </p:attrNameLst>
                                      </p:cBhvr>
                                      <p:tavLst>
                                        <p:tav tm="0">
                                          <p:val>
                                            <p:strVal val="#ppt_y-0.4"/>
                                          </p:val>
                                        </p:tav>
                                        <p:tav tm="100000">
                                          <p:val>
                                            <p:strVal val="#ppt_y+0.1"/>
                                          </p:val>
                                        </p:tav>
                                      </p:tavLst>
                                    </p:anim>
                                    <p:anim calcmode="lin" valueType="num">
                                      <p:cBhvr additive="repl">
                                        <p:cTn id="52" dur="200" fill="hold">
                                          <p:stCondLst>
                                            <p:cond delay="800"/>
                                          </p:stCondLst>
                                        </p:cTn>
                                        <p:tgtEl>
                                          <p:spTgt spid="1224"/>
                                        </p:tgtEl>
                                        <p:attrNameLst>
                                          <p:attrName>ppt_x</p:attrName>
                                        </p:attrNameLst>
                                      </p:cBhvr>
                                      <p:tavLst>
                                        <p:tav tm="0">
                                          <p:val>
                                            <p:strVal val="#ppt_x-0.05"/>
                                          </p:val>
                                        </p:tav>
                                        <p:tav tm="100000">
                                          <p:val>
                                            <p:strVal val="#ppt_x"/>
                                          </p:val>
                                        </p:tav>
                                      </p:tavLst>
                                    </p:anim>
                                    <p:anim calcmode="lin" valueType="num">
                                      <p:cBhvr additive="repl">
                                        <p:cTn id="53" dur="200" fill="hold">
                                          <p:stCondLst>
                                            <p:cond delay="800"/>
                                          </p:stCondLst>
                                        </p:cTn>
                                        <p:tgtEl>
                                          <p:spTgt spid="1224"/>
                                        </p:tgtEl>
                                        <p:attrNameLst>
                                          <p:attrName>ppt_y</p:attrName>
                                        </p:attrNameLst>
                                      </p:cBhvr>
                                      <p:tavLst>
                                        <p:tav tm="0">
                                          <p:val>
                                            <p:strVal val="#ppt_y+0.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1225">
                                            <p:txEl>
                                              <p:pRg st="0" end="0"/>
                                            </p:txEl>
                                          </p:spTgt>
                                        </p:tgtEl>
                                        <p:attrNameLst>
                                          <p:attrName>style.visibility</p:attrName>
                                        </p:attrNameLst>
                                      </p:cBhvr>
                                      <p:to>
                                        <p:strVal val="visible"/>
                                      </p:to>
                                    </p:set>
                                    <p:animEffect filter="fade" transition="in">
                                      <p:cBhvr additive="repl">
                                        <p:cTn id="58" dur="1000"/>
                                        <p:tgtEl>
                                          <p:spTgt spid="1225">
                                            <p:txEl>
                                              <p:pRg st="0" end="0"/>
                                            </p:txEl>
                                          </p:spTgt>
                                        </p:tgtEl>
                                      </p:cBhvr>
                                    </p:animEffect>
                                    <p:anim calcmode="lin" valueType="num">
                                      <p:cBhvr additive="repl">
                                        <p:cTn id="59" dur="1000" fill="hold"/>
                                        <p:tgtEl>
                                          <p:spTgt spid="1225">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2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cc"/>
                </a:solidFill>
                <a:latin typeface="Tahoma"/>
              </a:rPr>
              <a:t>Why she is a heroine</a:t>
            </a:r>
            <a:endParaRPr b="0" lang="en-US" sz="4200" spc="-1" strike="noStrike">
              <a:solidFill>
                <a:srgbClr val="ffffcc"/>
              </a:solidFill>
              <a:latin typeface="Tahoma"/>
            </a:endParaRPr>
          </a:p>
        </p:txBody>
      </p:sp>
      <p:sp>
        <p:nvSpPr>
          <p:cNvPr id="1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ean is a heroine for both boys and girls She achieved her dreams as well as chasing them she is a perfect role model for every one and I sure wish I met h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8">
                                  <p:stCondLst>
                                    <p:cond delay="0"/>
                                  </p:stCondLst>
                                  <p:childTnLst>
                                    <p:set>
                                      <p:cBhvr>
                                        <p:cTn id="66" dur="1" fill="hold">
                                          <p:stCondLst>
                                            <p:cond delay="0"/>
                                          </p:stCondLst>
                                        </p:cTn>
                                        <p:tgtEl>
                                          <p:spTgt spid="1226"/>
                                        </p:tgtEl>
                                        <p:attrNameLst>
                                          <p:attrName>style.visibility</p:attrName>
                                        </p:attrNameLst>
                                      </p:cBhvr>
                                      <p:to>
                                        <p:strVal val="visible"/>
                                      </p:to>
                                    </p:set>
                                    <p:anim calcmode="lin" valueType="num">
                                      <p:cBhvr additive="repl">
                                        <p:cTn id="67" dur="15000" fill="hold"/>
                                        <p:tgtEl>
                                          <p:spTgt spid="1226"/>
                                        </p:tgtEl>
                                        <p:attrNameLst>
                                          <p:attrName>ppt_x</p:attrName>
                                        </p:attrNameLst>
                                      </p:cBhvr>
                                      <p:tavLst>
                                        <p:tav tm="0">
                                          <p:val>
                                            <p:strVal val="#ppt_x"/>
                                          </p:val>
                                        </p:tav>
                                        <p:tav tm="100000">
                                          <p:val>
                                            <p:strVal val="#ppt_x"/>
                                          </p:val>
                                        </p:tav>
                                      </p:tavLst>
                                    </p:anim>
                                    <p:anim calcmode="lin" valueType="num">
                                      <p:cBhvr additive="repl">
                                        <p:cTn id="68" dur="15000" fill="hold"/>
                                        <p:tgtEl>
                                          <p:spTgt spid="1226"/>
                                        </p:tgtEl>
                                        <p:attrNameLst>
                                          <p:attrName>ppt_y</p:attrName>
                                        </p:attrNameLst>
                                      </p:cBhvr>
                                      <p:tavLst>
                                        <p:tav tm="0">
                                          <p:val>
                                            <p:strVal val="#ppt_y+1"/>
                                          </p:val>
                                        </p:tav>
                                        <p:tav tm="100000">
                                          <p:val>
                                            <p:strVal val="#ppt_y-1"/>
                                          </p:val>
                                        </p:tav>
                                      </p:tavLst>
                                    </p:anim>
                                  </p:childTnLst>
                                </p:cTn>
                              </p:par>
                              <p:par>
                                <p:cTn id="69" nodeType="withEffect" fill="hold" presetClass="entr" presetID="28">
                                  <p:stCondLst>
                                    <p:cond delay="0"/>
                                  </p:stCondLst>
                                  <p:childTnLst>
                                    <p:set>
                                      <p:cBhvr>
                                        <p:cTn id="70" dur="1" fill="hold">
                                          <p:stCondLst>
                                            <p:cond delay="0"/>
                                          </p:stCondLst>
                                        </p:cTn>
                                        <p:tgtEl>
                                          <p:spTgt spid="1227">
                                            <p:txEl>
                                              <p:pRg st="0" end="0"/>
                                            </p:txEl>
                                          </p:spTgt>
                                        </p:tgtEl>
                                        <p:attrNameLst>
                                          <p:attrName>style.visibility</p:attrName>
                                        </p:attrNameLst>
                                      </p:cBhvr>
                                      <p:to>
                                        <p:strVal val="visible"/>
                                      </p:to>
                                    </p:set>
                                    <p:anim calcmode="lin" valueType="num">
                                      <p:cBhvr additive="repl">
                                        <p:cTn id="71" dur="15000" fill="hold"/>
                                        <p:tgtEl>
                                          <p:spTgt spid="1227">
                                            <p:txEl>
                                              <p:pRg st="0" end="0"/>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122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1T01:27:09Z</dcterms:created>
  <dc:creator>6d19</dc:creator>
  <dc:description/>
  <dc:language>en-US</dc:language>
  <cp:lastModifiedBy>6d19</cp:lastModifiedBy>
  <dcterms:modified xsi:type="dcterms:W3CDTF">2012-03-05T21:14:36Z</dcterms:modified>
  <cp:revision>3</cp:revision>
  <dc:subject/>
  <dc:title>JEAN BATTEN</dc:title>
</cp:coreProperties>
</file>